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D346-9FD1-4D30-81C7-BF111FC5F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3BCD-93D0-4CBF-9C0F-A4E3B006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7E9A-D23D-4839-A34F-24364836A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A56D-9CF6-435E-A117-7F0267B15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B9C8-D8E8-4221-9CAC-BA58588CE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9264-72B8-4D5A-822D-7592AA75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D3D74-A3EB-4DE4-A276-3E779111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144C-61EC-47FA-BC66-25C7AF80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7A85-D8B6-4124-A595-9A630088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4610-AA59-4F5F-AD3C-66F5D393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9ADF-E288-4C5E-954D-9A02B273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93D0-7D72-4B12-8F3A-294B4442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A039-5147-4767-9011-7A989310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8B47-EE47-4C1F-BECB-0D613F2F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CE80-D824-42F1-8E77-160EFF00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9D02-8999-4A3F-A77E-BBBB03964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417B-755F-4EDE-93F9-F7D262212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523B-BC88-49B7-8F8A-23708EB7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A524-723E-436A-B966-C045667C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2D02-53DD-474B-BCA2-8A91F946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3BD2-0B12-4692-808B-6BCBC89D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4896-F5B7-471C-A459-601CF6A5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E209-1D0A-4A46-AC27-4296C378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D2CA-BA9F-4C75-80D0-742435B2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AF90-98A6-4154-807C-1EB23273E1C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34F2-A04E-4009-915C-2747B032248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20 ГОД И ПЛАНОВЫЙ ПЕРИОД 2021-2022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11-27T00:30:08Z</dcterms:modified>
  <cp:revision>44</cp:revision>
  <dc:subject/>
  <dc:title>Структура собственных доходов на 2016 год бюджета Дальнереченского городского округа</dc:title>
</cp:coreProperties>
</file>